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18B02-D820-4356-9F2B-47225BE5F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3EA3D-1883-416F-935B-40C474DDF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9974F7-41C3-43E2-B4E2-6275CFCE0E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4890BE-BD6F-4F3F-8F76-CC2B86F07C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AA1F22-E374-4D09-AA8B-DD7ACC6C0B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94A111-3F64-41E7-B63E-B602D9A598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B02AA3-6C36-44C2-8499-351E87CDA1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CD9480-8CBB-4234-8ED7-BCFE8BB7A7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E8A71A-B867-4B80-B1AB-6504F183D2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91B4DA-6555-4C6B-9547-A91DB886CE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57EF96-3D7F-403C-9BDB-201AE3E4F3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EA11FF0-724A-4A88-8B2D-ABD1EBACACF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1791D-32BC-4AE8-958E-963316FAA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B9F163-089A-4BB0-B51B-6F084C628C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BE7A27-0BEA-4467-8AF6-938E6464E5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031276-3037-480F-BC20-203854229F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C51829-801D-414F-83BE-757CD5A402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793D10-8701-4558-A4B6-C08BEF6761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849E79-0D10-403A-B7AF-E9DCF6E188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BC37AB-C65B-4059-A755-AECFB996FC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5AE030-92B7-4D16-AC50-FF128DB198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D6B0ED-E215-49FB-9001-B20460AEA8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0E004A-19C5-4120-B561-48F48F36781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2980D-556C-4AA5-9188-F3E416E4A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A322484-E282-4C79-9010-0FB289A803D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C919B4E-3AE8-4633-BC9F-71B7308E9C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F1A74D-349D-430F-A0CD-AAC06E62E62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51FDB7-68A1-47AB-9F14-BB0A71D1E2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3DC7D7-010F-4A59-8FAF-F6D578D68D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E467D5-8778-4980-A3EA-8711605F77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32CFC6-7313-4914-BDBF-1526E0DFCF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CA11F5-BD1C-46C1-8ED3-5C0441FBF9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4B238F-FF50-4810-977F-BEA4348890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0D3B55-892E-486B-B1A8-57A2F386C4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5BC6D6-47B5-4483-8D0D-1E694A5CC0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767235-5C2C-4C2F-B00B-8E55853C52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0A50D6-61A6-4BB3-9551-5B1133A90BF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FEEF318-F0AC-4438-BCEF-38D70A45F6B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43E3A71-011E-4DD2-B135-503C88A084F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3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429419-1842-4D01-8465-60021D5CB5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C8B8B4-471A-49E3-A866-D5CABD52780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3D64D3-6786-4A29-93BB-683C30CD76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465253-AAF6-404D-BB90-AE017C66A0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4D8D434-EEC5-4B85-8580-253CD872F7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4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74A000-D201-4B55-848C-C9C95AFE69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2014A-C862-4AAD-B6CB-2C5836DEB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4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1D2A89-FDCF-4BEC-A709-9C822E1306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D9FF11-01CE-4C20-952E-17B51366A7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B9E7D4A-9DBD-46FF-A89E-642D85D92F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10079F4-AAB7-4FBA-8084-6F6D74831D9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6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E57660F-E3F7-47FC-8A59-436D082AEB4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6D280-2217-46B4-9E1A-F9A243B9F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58D62-F320-493A-B3AC-1DB7C7C1E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A8FFA-0390-42F1-9101-6DC029D24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4C833-6B4E-499A-A759-F7660FDAC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D174A-5B9A-4F25-AEB9-1A9F6182A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D09B4-DFD0-452F-90D7-A42B7DE36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EE323-6AAF-4349-B52B-1CEC66D21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11335-2369-46E3-AA36-39DFCFDE9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A672E-D627-4503-9759-26C9C105C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6AC8A2-BC8F-4A01-8FA8-1852B07B28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34E71B-3B84-4926-B9A3-3B5336DB4C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78CEFC-A73A-423D-8C31-A50028938B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1C2B40-0012-49C5-81BB-5B22E878EF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BBDAEB-9C11-4C05-9D5C-D2348E3E2D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10B447-5A5E-4F4F-BE98-142BB8CD57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D995B0-253C-453A-BE0D-D60CA1F739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8FEA7-C53E-4DEF-AEC8-8E5251061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4D63AF-1A34-4604-A034-94F183D3D1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B6624E-FD9F-427D-8D60-2038A4B3AF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C789F0-FD34-44D0-A2A5-12DAF0DD34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1CE7CE-121C-4186-A60C-BFE47DDFF8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546ACB-65A1-4182-BA34-E15303776D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647216-5C1C-44DD-B5E8-A23AE305F6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188D73-5F6F-4032-B7D1-AD0AF5CEB1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3ACCAB1-A1C0-4E23-9EBF-4194C23D76D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3A9A61C-331B-4972-B068-775FF673417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532B08A-3338-4366-915A-1F0EC3C6DA5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1111F-2793-4717-A3B6-2BD12AC34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BA67930-C89B-42C3-965F-FE5E7240040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A6480C1-E31E-4D30-A3EE-18B27B8C7A1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568DFD0-D2DF-45F4-AE3B-34352268E94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60A6F4F-C49B-47A0-B8F7-59C3C35F209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A662C6-E7B3-4BAB-81AA-B0B6FDE7EAB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AACD28E-B8A1-4D4C-ACED-EE13D641B20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F944373-2ECB-44EF-94F0-AAE34089F9B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62D8C93-FDEA-4F78-A23C-97C56DD290B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8B3674A-65AB-4027-B8FD-9DBD32AB168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E406D1-F485-4227-9122-B93EE9658A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CE13E-1957-490C-9D8C-BB55DAC73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5456D3-2732-40D4-834C-E19B06D829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57D968-B6DA-4900-80DD-5E0C6A7C8C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1ED74E-A51F-4C16-8AF6-BCEF3DF433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6A6B65-CDAE-4325-8D48-5FBCB2BB3A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62159E-99FF-43EB-BCB5-01239A8E15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343641-E946-41C1-A8A8-76B94E2715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B89CEF-368F-40A7-A525-E61DD2E1C8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85A935-D42A-4122-A24B-FCFC3194CE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A9A4CF-9087-47EC-A201-9694A432FA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8D59B4-F58A-4089-8983-1007C0EB3C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9DB85-1B9E-4B37-AECD-E43D3E82F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DD892A-4A81-47EF-AA83-05DA175E04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5121F44-DBCD-4B8F-9B3D-AB90275116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4885ADE-D5B3-4491-822A-F7F85C41C2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E41F5B4-5F89-4E19-B780-F9BE6BD11C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29A622C-FCDF-4693-9D3A-63B4F97583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3BA104C-F2FF-4707-8F76-6E2A54164D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F6F7518-B9D6-420D-86A6-87206D0DB3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1A7E084-3DFF-4E12-AB72-DC4387D206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9E9B304-7C2E-46B9-A1BB-6C33A9F555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0FD1FF0-8E74-4BD0-87E7-BC570EEAAA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DAA8A-266B-4673-847D-850BABAD6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28D6D0D-5EBB-443C-A9A1-5386379D1F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8A9DF41-0909-4A1E-BBE3-E2E37F0A47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5D98E8F-1F36-4DBB-B906-E1A19D67A4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7851D62-BDF8-46DB-AF63-E183A5669C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5C6E173-9A27-4DE7-920A-253FABE170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CFFF98D-293F-4595-93D2-F7CCF71D16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22C3AE2-5125-4E10-BB61-7F223502C8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B9B895A-50E6-403F-A7EC-7C6034472F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1A35B0F-F904-4ADB-AB06-2016BBF716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6B29E65-6223-4171-9DA7-40624645F2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C71FF-9BD7-4816-96D1-249BEC8D6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87E0DEE-17EC-444F-9F6E-DD194F3859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E87723D-D267-4AB3-B8B5-EA532B4533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FABBD9F-602C-4E9A-87AA-6197A1B91B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D0B5A26-C3A7-4D8C-8CC6-E50F498858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9B4AFAE-4EB2-4E56-83DB-5376EDED24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DF6020-5C7C-4FA5-967D-97A193052F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A66D49-CBB6-4F56-BA07-774FA40FDE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FA0BD3-0183-40BC-A258-70E37A8AEE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78D33B-09E4-434B-99FB-99560F1495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04283A-AEF8-40AF-89F3-49DDAF315A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624E4-3571-424C-8FA6-CBBF06A9B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8BD06A-D6BF-4D6F-AF38-A758F9F072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1A40D4-BCA9-4F79-A1EC-85CFD792A4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1A5DFD-E674-4F17-9D03-91DA48CEF5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8A7624-B954-4422-92B8-0BBF0FAD7B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BF6CBF-472C-4CC8-8F4B-84AB4E1106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13753E-3CED-4FCC-AF3F-CE99473498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7A8B90-8B49-40F4-B572-0D000EAE90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BA3C16-2AB7-493C-A99A-3045031D8D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88507F-2B0D-437E-A7E6-449C2695CA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89B768-19BD-43DA-9697-F2183A2B1D1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4731-88A8-4E2F-AA3C-54E7C4494D6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736" name=""/>
          <p:cNvGrpSpPr/>
          <p:nvPr/>
        </p:nvGrpSpPr>
        <p:grpSpPr>
          <a:xfrm>
            <a:off x="318960" y="1752480"/>
            <a:ext cx="8825040" cy="5129280"/>
            <a:chOff x="318960" y="1752480"/>
            <a:chExt cx="8825040" cy="5129280"/>
          </a:xfrm>
        </p:grpSpPr>
        <p:sp>
          <p:nvSpPr>
            <p:cNvPr id="737"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740"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741"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42"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74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744" name="PlaceHolder 2"/>
          <p:cNvSpPr>
            <a:spLocks noGrp="1"/>
          </p:cNvSpPr>
          <p:nvPr>
            <p:ph type="dt" idx="28"/>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45" name="PlaceHolder 3"/>
          <p:cNvSpPr>
            <a:spLocks noGrp="1"/>
          </p:cNvSpPr>
          <p:nvPr>
            <p:ph type="ftr" idx="29"/>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46" name="PlaceHolder 4"/>
          <p:cNvSpPr>
            <a:spLocks noGrp="1"/>
          </p:cNvSpPr>
          <p:nvPr>
            <p:ph type="sldNum" idx="30"/>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A56A0-FC09-4D45-A16C-BC5D918108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783" name=""/>
          <p:cNvGrpSpPr/>
          <p:nvPr/>
        </p:nvGrpSpPr>
        <p:grpSpPr>
          <a:xfrm>
            <a:off x="0" y="0"/>
            <a:ext cx="7242120" cy="1981080"/>
            <a:chOff x="0" y="0"/>
            <a:chExt cx="7242120" cy="1981080"/>
          </a:xfrm>
        </p:grpSpPr>
        <p:sp>
          <p:nvSpPr>
            <p:cNvPr id="784"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78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88"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78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90"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11F08-F968-421F-9700-DFF40DEC22D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27" name=""/>
          <p:cNvGrpSpPr/>
          <p:nvPr/>
        </p:nvGrpSpPr>
        <p:grpSpPr>
          <a:xfrm>
            <a:off x="0" y="0"/>
            <a:ext cx="8458200" cy="5943600"/>
            <a:chOff x="0" y="0"/>
            <a:chExt cx="8458200" cy="5943600"/>
          </a:xfrm>
        </p:grpSpPr>
        <p:sp>
          <p:nvSpPr>
            <p:cNvPr id="828"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30" name="PlaceHolder 1"/>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831" name="PlaceHolder 2"/>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832" name="PlaceHolder 3"/>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E8652-E210-4EBD-8BF9-C245DD3F862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833"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C487-0EC5-4E2A-B821-02F4FA0DC792}"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8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547C-C106-4310-94E7-EB40C711C3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6"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8"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1111B-6200-42E7-B4CA-51F6F5C19D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9"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466" name=""/>
          <p:cNvGrpSpPr/>
          <p:nvPr/>
        </p:nvGrpSpPr>
        <p:grpSpPr>
          <a:xfrm>
            <a:off x="0" y="0"/>
            <a:ext cx="9144000" cy="6858000"/>
            <a:chOff x="0" y="0"/>
            <a:chExt cx="9144000" cy="6858000"/>
          </a:xfrm>
        </p:grpSpPr>
        <p:sp>
          <p:nvSpPr>
            <p:cNvPr id="467"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9"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0" name=""/>
          <p:cNvGrpSpPr/>
          <p:nvPr/>
        </p:nvGrpSpPr>
        <p:grpSpPr>
          <a:xfrm>
            <a:off x="0" y="6019920"/>
            <a:ext cx="7848720" cy="857160"/>
            <a:chOff x="0" y="6019920"/>
            <a:chExt cx="7848720" cy="857160"/>
          </a:xfrm>
        </p:grpSpPr>
        <p:sp>
          <p:nvSpPr>
            <p:cNvPr id="471"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2" name=""/>
            <p:cNvGrpSpPr/>
            <p:nvPr/>
          </p:nvGrpSpPr>
          <p:grpSpPr>
            <a:xfrm>
              <a:off x="3946680" y="6019920"/>
              <a:ext cx="3902040" cy="857160"/>
              <a:chOff x="3946680" y="6019920"/>
              <a:chExt cx="3902040" cy="857160"/>
            </a:xfrm>
          </p:grpSpPr>
          <p:sp>
            <p:nvSpPr>
              <p:cNvPr id="473"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8"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9" name=""/>
          <p:cNvGrpSpPr/>
          <p:nvPr/>
        </p:nvGrpSpPr>
        <p:grpSpPr>
          <a:xfrm>
            <a:off x="627120" y="6021360"/>
            <a:ext cx="5684760" cy="849240"/>
            <a:chOff x="627120" y="6021360"/>
            <a:chExt cx="5684760" cy="849240"/>
          </a:xfrm>
        </p:grpSpPr>
        <p:sp>
          <p:nvSpPr>
            <p:cNvPr id="48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48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8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9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A02F-72F0-471E-8CE9-2F2C155C1C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527" name=""/>
          <p:cNvGrpSpPr/>
          <p:nvPr/>
        </p:nvGrpSpPr>
        <p:grpSpPr>
          <a:xfrm>
            <a:off x="-6480" y="20520"/>
            <a:ext cx="9144000" cy="6858000"/>
            <a:chOff x="-6480" y="20520"/>
            <a:chExt cx="9144000" cy="6858000"/>
          </a:xfrm>
        </p:grpSpPr>
        <p:sp>
          <p:nvSpPr>
            <p:cNvPr id="528"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0"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1" name=""/>
          <p:cNvGrpSpPr/>
          <p:nvPr/>
        </p:nvGrpSpPr>
        <p:grpSpPr>
          <a:xfrm>
            <a:off x="-1440" y="6033960"/>
            <a:ext cx="7844400" cy="850680"/>
            <a:chOff x="-1440" y="6033960"/>
            <a:chExt cx="7844400" cy="850680"/>
          </a:xfrm>
        </p:grpSpPr>
        <p:sp>
          <p:nvSpPr>
            <p:cNvPr id="532"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3944880" y="6033960"/>
              <a:ext cx="3898080" cy="850680"/>
              <a:chOff x="3944880" y="6033960"/>
              <a:chExt cx="3898080" cy="850680"/>
            </a:xfrm>
          </p:grpSpPr>
          <p:sp>
            <p:nvSpPr>
              <p:cNvPr id="534"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9"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40" name=""/>
          <p:cNvGrpSpPr/>
          <p:nvPr/>
        </p:nvGrpSpPr>
        <p:grpSpPr>
          <a:xfrm>
            <a:off x="627120" y="6021360"/>
            <a:ext cx="5684760" cy="849240"/>
            <a:chOff x="627120" y="6021360"/>
            <a:chExt cx="5684760" cy="849240"/>
          </a:xfrm>
        </p:grpSpPr>
        <p:sp>
          <p:nvSpPr>
            <p:cNvPr id="541"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4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548"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49"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D4F0-FBD6-4A1E-8DD0-F523457751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0"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7" name="PlaceHolder 1"/>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88" name="PlaceHolder 2"/>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0D865-CDC9-42ED-AEFC-E2C7ACA075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589" name=""/>
          <p:cNvGrpSpPr/>
          <p:nvPr/>
        </p:nvGrpSpPr>
        <p:grpSpPr>
          <a:xfrm>
            <a:off x="0" y="0"/>
            <a:ext cx="9140760" cy="6850080"/>
            <a:chOff x="0" y="0"/>
            <a:chExt cx="9140760" cy="6850080"/>
          </a:xfrm>
        </p:grpSpPr>
        <p:grpSp>
          <p:nvGrpSpPr>
            <p:cNvPr id="590" name=""/>
            <p:cNvGrpSpPr/>
            <p:nvPr/>
          </p:nvGrpSpPr>
          <p:grpSpPr>
            <a:xfrm>
              <a:off x="2743200" y="3540240"/>
              <a:ext cx="6392880" cy="3309840"/>
              <a:chOff x="2743200" y="3540240"/>
              <a:chExt cx="6392880" cy="3309840"/>
            </a:xfrm>
          </p:grpSpPr>
          <p:sp>
            <p:nvSpPr>
              <p:cNvPr id="591"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6"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8"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99" name="PlaceHolder 4"/>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0"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637" name=""/>
          <p:cNvGrpSpPr/>
          <p:nvPr/>
        </p:nvGrpSpPr>
        <p:grpSpPr>
          <a:xfrm>
            <a:off x="0" y="0"/>
            <a:ext cx="9140760" cy="6850080"/>
            <a:chOff x="0" y="0"/>
            <a:chExt cx="9140760" cy="6850080"/>
          </a:xfrm>
        </p:grpSpPr>
        <p:grpSp>
          <p:nvGrpSpPr>
            <p:cNvPr id="638" name=""/>
            <p:cNvGrpSpPr/>
            <p:nvPr/>
          </p:nvGrpSpPr>
          <p:grpSpPr>
            <a:xfrm>
              <a:off x="2743200" y="3540240"/>
              <a:ext cx="6392880" cy="3309840"/>
              <a:chOff x="2743200" y="3540240"/>
              <a:chExt cx="6392880" cy="3309840"/>
            </a:xfrm>
          </p:grpSpPr>
          <p:sp>
            <p:nvSpPr>
              <p:cNvPr id="639"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4"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47" name="PlaceHolder 2"/>
          <p:cNvSpPr>
            <a:spLocks noGrp="1"/>
          </p:cNvSpPr>
          <p:nvPr>
            <p:ph type="dt" idx="22"/>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48" name="PlaceHolder 3"/>
          <p:cNvSpPr>
            <a:spLocks noGrp="1"/>
          </p:cNvSpPr>
          <p:nvPr>
            <p:ph type="ftr" idx="23"/>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49" name="PlaceHolder 4"/>
          <p:cNvSpPr>
            <a:spLocks noGrp="1"/>
          </p:cNvSpPr>
          <p:nvPr>
            <p:ph type="sldNum" idx="24"/>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0A77-C069-47C7-81D8-26FEB48F9E1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86" name=""/>
          <p:cNvGrpSpPr/>
          <p:nvPr/>
        </p:nvGrpSpPr>
        <p:grpSpPr>
          <a:xfrm>
            <a:off x="318960" y="1828800"/>
            <a:ext cx="8825040" cy="5029200"/>
            <a:chOff x="318960" y="1828800"/>
            <a:chExt cx="8825040" cy="5029200"/>
          </a:xfrm>
        </p:grpSpPr>
        <p:sp>
          <p:nvSpPr>
            <p:cNvPr id="687"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91"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2"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93"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94"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95"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96"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7"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19595-BB23-4101-83D1-28B5877780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699"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66ff"/>
                </a:solidFill>
                <a:latin typeface="Tahoma"/>
              </a:rPr>
              <a:t>Mi Vacacion en Espana</a:t>
            </a:r>
            <a:endParaRPr b="0" lang="en-US" sz="5400" spc="-1" strike="noStrike">
              <a:solidFill>
                <a:srgbClr val="ffffcc"/>
              </a:solidFill>
              <a:latin typeface="Tahoma"/>
            </a:endParaRPr>
          </a:p>
        </p:txBody>
      </p:sp>
      <p:sp>
        <p:nvSpPr>
          <p:cNvPr id="8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Por: Eliomar Ortiz</a:t>
            </a:r>
            <a:endParaRPr b="0" lang="en-US" sz="3200" spc="-1" strike="noStrike">
              <a:solidFill>
                <a:srgbClr val="ffffff"/>
              </a:solidFill>
              <a:latin typeface="Tahoma"/>
            </a:endParaRPr>
          </a:p>
        </p:txBody>
      </p:sp>
      <p:pic>
        <p:nvPicPr>
          <p:cNvPr id="872" name="" descr=""/>
          <p:cNvPicPr/>
          <p:nvPr/>
        </p:nvPicPr>
        <p:blipFill>
          <a:blip r:embed="rId1"/>
          <a:stretch/>
        </p:blipFill>
        <p:spPr>
          <a:xfrm>
            <a:off x="2590920" y="380880"/>
            <a:ext cx="3352680" cy="219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i Hotel</a:t>
            </a:r>
            <a:endParaRPr b="0" lang="en-US" sz="4400" spc="-1" strike="noStrike">
              <a:solidFill>
                <a:srgbClr val="ffffff"/>
              </a:solidFill>
              <a:latin typeface="Tahoma"/>
            </a:endParaRPr>
          </a:p>
        </p:txBody>
      </p:sp>
      <p:sp>
        <p:nvSpPr>
          <p:cNvPr id="87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erida Nicol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 llegue a mi hotel el AC Palacio Del Retiro. Es una hotel muy grande y elegante. </a:t>
            </a:r>
            <a:r>
              <a:rPr b="0" lang="es-ES" sz="2800" spc="-1" strike="noStrike">
                <a:solidFill>
                  <a:srgbClr val="ffffff"/>
                </a:solidFill>
                <a:latin typeface="Tahoma"/>
              </a:rPr>
              <a:t>El hotel es muy bonito y tiene muchas actividades divertidas. El hotel es muy bonito y tiene muchas actividades divertidas, como la natación y los deportes. También hay muchos platos delicioso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Un fuerte abrazo,</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liomar</a:t>
            </a:r>
            <a:endParaRPr b="0" lang="en-US" sz="2800" spc="-1" strike="noStrike">
              <a:solidFill>
                <a:srgbClr val="ffffff"/>
              </a:solidFill>
              <a:latin typeface="Tahoma"/>
            </a:endParaRPr>
          </a:p>
        </p:txBody>
      </p:sp>
      <p:pic>
        <p:nvPicPr>
          <p:cNvPr id="875" name="" descr=""/>
          <p:cNvPicPr/>
          <p:nvPr/>
        </p:nvPicPr>
        <p:blipFill>
          <a:blip r:embed="rId2"/>
          <a:stretch/>
        </p:blipFill>
        <p:spPr>
          <a:xfrm>
            <a:off x="5105520" y="152280"/>
            <a:ext cx="3047760" cy="2057400"/>
          </a:xfrm>
          <a:prstGeom prst="rect">
            <a:avLst/>
          </a:prstGeom>
          <a:ln w="0">
            <a:noFill/>
          </a:ln>
        </p:spPr>
      </p:pic>
      <p:pic>
        <p:nvPicPr>
          <p:cNvPr id="876" name="" descr=""/>
          <p:cNvPicPr/>
          <p:nvPr/>
        </p:nvPicPr>
        <p:blipFill>
          <a:blip r:embed="rId3"/>
          <a:stretch/>
        </p:blipFill>
        <p:spPr>
          <a:xfrm>
            <a:off x="228600" y="5257800"/>
            <a:ext cx="48769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l Segundo Dia</a:t>
            </a:r>
            <a:endParaRPr b="0" lang="en-US" sz="4400" spc="-1" strike="noStrike">
              <a:solidFill>
                <a:srgbClr val="e3e3ff"/>
              </a:solidFill>
              <a:latin typeface="Arial"/>
            </a:endParaRPr>
          </a:p>
        </p:txBody>
      </p:sp>
      <p:sp>
        <p:nvSpPr>
          <p:cNvPr id="8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Querido Miguel</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el segundo día que visité la playa con mi familia. Fuimos el surf y la plancha de vela luego curtidos por la playa. No tomo el sol.</a:t>
            </a:r>
            <a:r>
              <a:rPr b="0" lang="en-US" sz="3200" spc="-1" strike="noStrike">
                <a:solidFill>
                  <a:srgbClr val="ffffff"/>
                </a:solidFill>
                <a:latin typeface="Arial"/>
              </a:rPr>
              <a:t>Traje protector solar y una toalla de playa. También me trajo un traje de baño para la piscina y las playa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n abras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liomar</a:t>
            </a:r>
            <a:endParaRPr b="0" lang="en-US" sz="3200" spc="-1" strike="noStrike">
              <a:solidFill>
                <a:srgbClr val="ffffff"/>
              </a:solidFill>
              <a:latin typeface="Arial"/>
            </a:endParaRPr>
          </a:p>
        </p:txBody>
      </p:sp>
      <p:pic>
        <p:nvPicPr>
          <p:cNvPr id="879" name="" descr=""/>
          <p:cNvPicPr/>
          <p:nvPr/>
        </p:nvPicPr>
        <p:blipFill>
          <a:blip r:embed="rId1"/>
          <a:stretch/>
        </p:blipFill>
        <p:spPr>
          <a:xfrm>
            <a:off x="1371600" y="5105520"/>
            <a:ext cx="3581280" cy="144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l Tercera Dia</a:t>
            </a:r>
            <a:endParaRPr b="1" lang="en-US" sz="4400" spc="-1" strike="noStrike">
              <a:solidFill>
                <a:srgbClr val="e5e5ff"/>
              </a:solidFill>
              <a:latin typeface="Garamond"/>
            </a:endParaRPr>
          </a:p>
        </p:txBody>
      </p:sp>
      <p:sp>
        <p:nvSpPr>
          <p:cNvPr id="8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Querida Mondo,</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iempo es calor y hace mucho sol. A veces hay tiempo fresco durante la noche. En el tercer día visitamos muchas tiendas y compró muchos recuerdos. Para que podamos recordar nuestra visita fantástica para España. Visitamos el museo de Guggenheim en Bilbao. La museo es muy interesante y elegante. </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Un abraso,</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liomar</a:t>
            </a:r>
            <a:endParaRPr b="0" lang="en-US" sz="2800" spc="-1" strike="noStrike">
              <a:solidFill>
                <a:srgbClr val="ffffff"/>
              </a:solidFill>
              <a:latin typeface="Garamond"/>
            </a:endParaRPr>
          </a:p>
        </p:txBody>
      </p:sp>
      <p:pic>
        <p:nvPicPr>
          <p:cNvPr id="882" name="" descr=""/>
          <p:cNvPicPr/>
          <p:nvPr/>
        </p:nvPicPr>
        <p:blipFill>
          <a:blip r:embed="rId1"/>
          <a:stretch/>
        </p:blipFill>
        <p:spPr>
          <a:xfrm>
            <a:off x="7391520" y="4876920"/>
            <a:ext cx="1676160" cy="1828800"/>
          </a:xfrm>
          <a:prstGeom prst="rect">
            <a:avLst/>
          </a:prstGeom>
          <a:ln w="0">
            <a:noFill/>
          </a:ln>
        </p:spPr>
      </p:pic>
      <p:pic>
        <p:nvPicPr>
          <p:cNvPr id="883" name="" descr=""/>
          <p:cNvPicPr/>
          <p:nvPr/>
        </p:nvPicPr>
        <p:blipFill>
          <a:blip r:embed="rId2"/>
          <a:stretch/>
        </p:blipFill>
        <p:spPr>
          <a:xfrm>
            <a:off x="838080" y="4952880"/>
            <a:ext cx="3200400" cy="174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 Cuatro Dia</a:t>
            </a:r>
            <a:endParaRPr b="1" lang="en-US" sz="4400" spc="-1" strike="noStrike">
              <a:solidFill>
                <a:srgbClr val="ffffb7"/>
              </a:solidFill>
              <a:latin typeface="Arial Black"/>
            </a:endParaRPr>
          </a:p>
        </p:txBody>
      </p:sp>
      <p:sp>
        <p:nvSpPr>
          <p:cNvPr id="8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Querido Mile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el cuarto día el clima no fue tan bien que estaba lloviendo y nublado. Así que pasamos nuestro tiempo en la piscina del hotel en la piscina cubierta. También jugó en la sala de juegos. El día no fue tan malo, pero podría haber sido mejo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Un abraso,</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Eliom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Quinto Dia</a:t>
            </a:r>
            <a:endParaRPr b="0" lang="en-US" sz="4400" spc="-1" strike="noStrike">
              <a:solidFill>
                <a:srgbClr val="ffffcc"/>
              </a:solidFill>
              <a:latin typeface="Tahoma"/>
            </a:endParaRPr>
          </a:p>
        </p:txBody>
      </p:sp>
      <p:sp>
        <p:nvSpPr>
          <p:cNvPr id="8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 el quinto día el tiempo era fantástico. Que estaba muy caliente y muy soleado. Pasamos la mayor parte de nuestro día en la playa de Ses Illetes un muy famoso playa. Yo fui a navegar y lo pasamos muy bien. Después nos fuimos al hotel y me relajé en la bañera de hidromasaje. </a:t>
            </a:r>
            <a:endParaRPr b="0" lang="en-US" sz="3200" spc="-1" strike="noStrike">
              <a:solidFill>
                <a:srgbClr val="ffffff"/>
              </a:solidFill>
              <a:latin typeface="Tahoma"/>
            </a:endParaRPr>
          </a:p>
        </p:txBody>
      </p:sp>
      <p:pic>
        <p:nvPicPr>
          <p:cNvPr id="888" name="" descr=""/>
          <p:cNvPicPr/>
          <p:nvPr/>
        </p:nvPicPr>
        <p:blipFill>
          <a:blip r:embed="rId1"/>
          <a:stretch/>
        </p:blipFill>
        <p:spPr>
          <a:xfrm>
            <a:off x="2286000" y="5257800"/>
            <a:ext cx="4419720" cy="160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8T16:29:31Z</dcterms:created>
  <dc:creator>ortizeli</dc:creator>
  <dc:description/>
  <dc:language>en-US</dc:language>
  <cp:lastModifiedBy>ortizeli</cp:lastModifiedBy>
  <dcterms:modified xsi:type="dcterms:W3CDTF">2011-11-30T17:03:07Z</dcterms:modified>
  <cp:revision>5</cp:revision>
  <dc:subject/>
  <dc:title>Mi Vacacion en Espana</dc:title>
</cp:coreProperties>
</file>